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C75-B52B-454F-BF37-EDCAB60E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505-4153-4C22-9F9C-1BEB9B22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D10-3B54-4AA8-88AB-144CF648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5F0-CB1D-4D7F-BD18-93594F30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1C83-A84E-47DA-B623-A5B225B5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9CC9-C70D-4BB6-A0FE-A7615B1A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31CE-DA59-43B6-AE51-CC89A432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6FFC-A74D-4632-BCBB-4CD6EB26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E50E-9D47-4449-8E60-AB5763DF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F66E-76EF-41A9-B436-6B725651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F129-9458-40B2-A925-6933254A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28C-7BA6-482F-A2D4-7DC9C488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BA10-CB8F-46A5-86F0-3B692C8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2619-C9DD-4892-ABCA-84D01C35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BBE2-954E-4E6E-A471-E4402107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EC71-ABDC-44C5-9ECA-51AA9C1F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D330-22A8-49EB-88EF-69E42C9B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4C3-A6BB-413A-96BA-5D5AEA1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66D-93C9-4878-B802-C33C33F4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BD1-FE7B-459D-85AE-0F55D38D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B39-5A6F-486A-A022-859EC841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A71-1AD3-4FBF-8B2E-F0CE2A6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4DE-8765-41D4-89A1-61991289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C64-A39F-49B5-BF3B-D66E5772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A4AA-6EAA-4CC8-9190-6762B1888E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AB9D-B8D1-4B66-AA1E-943918EEF3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ТИМСКИ РАД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 и вештинама за обављање тимских за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али конфликти се решавају сарадњ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анови тима се поштују и уважав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ни стилови су различито награ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ажавање индивидуалних потреба је саставни део тимског 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6 так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 решавање конфликата у тимови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љање већег броја информација и дискусија о основним чињениц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ој више алтернатива како би се унапредила деб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једничко усаглашавање циљ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ацивање хумора у процес одлуч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ржавање равнотеже јаких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бацивање одлука без снажног консенз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ф: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а људи коју повезују зејднични циљеви и интереси и који располажу одређеним вештинама и знањима за остваривање постављених задатака и циљ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р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еличина т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1 Категоризација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Тимови за решавање про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прављачк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мови за подр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2 Категоризација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Радн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енаџерск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3 Категоризација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јектн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имови за тоталну сатисфакцију потрош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мови као радне једи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ртуелн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прављање тимов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Јасно постављени циљеви и очекивани резул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авилна селекција чланова т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иверсификова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личитост и комплементарност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лобална интег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локална респонз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мско лиде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нтег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ерење прог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свећеност свим члановима 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гова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Решавање конфли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мали» конфл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велики» конфл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Мерење перформанси и награђивање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блем мерења перформанси 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ју не испуњавања циљ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онуси или унапре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ромовисање давања повратне информације и у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акто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ји утичу на ефикасност тимског ра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4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муникација, кооперација, колаборација и компром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Врем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реме које тим проведе заје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Истинска партиципациј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тарији руководиоци и остали запослени увек треба да функционишу као 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рактеристи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спешних тим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љеви чланова тима се поклапају са циљевима прој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анови тима учествују у планирању и контроли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луке се заснивају на консенз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ер тима и чланови пројектују план и извршавају 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анови тима располажу знањима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3T17:50:31Z</dcterms:modified>
  <cp:revision>182</cp:revision>
  <dc:subject/>
  <dc:title>Soft and Hard Skills Development: A Current Situation in Serbian Companies</dc:title>
</cp:coreProperties>
</file>